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9A45-6E3C-416B-B8AA-1EE6838A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D0F-16B1-4EF0-87A2-C9B4C56F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F92-01E5-4FB5-A198-482265C6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D5D-B4BF-4DD1-9375-7DD96E81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0388-7934-4EF3-B398-77B924AF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E593-F8ED-4051-A2C0-F8A38BD8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B553-0908-4660-9FA6-B9EF68C0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1D8-7DAB-4731-AC2B-88FAB3DE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1C8A-B909-4877-AC8A-7790F5F7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D6B-D8BE-46A7-BBBF-6EFFECA9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9B2A-6B46-4B62-8C45-CD5E01CF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531-2DCB-4FEC-835E-70FF92AF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DA21-6587-40CD-AB38-D367E41F3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u 1" descr=""/>
          <p:cNvPicPr/>
          <p:nvPr/>
        </p:nvPicPr>
        <p:blipFill>
          <a:blip r:embed="rId1"/>
          <a:stretch/>
        </p:blipFill>
        <p:spPr>
          <a:xfrm>
            <a:off x="493560" y="1036800"/>
            <a:ext cx="6897960" cy="639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28840" y="2396880"/>
            <a:ext cx="6400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setăText 4"/>
          <p:cNvSpPr/>
          <p:nvPr/>
        </p:nvSpPr>
        <p:spPr>
          <a:xfrm>
            <a:off x="626400" y="30492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C.MIHAI VODA COM.MIHAI VITEA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setăText 5"/>
          <p:cNvSpPr/>
          <p:nvPr/>
        </p:nvSpPr>
        <p:spPr>
          <a:xfrm>
            <a:off x="6021720" y="6072120"/>
            <a:ext cx="23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Book Antiqua"/>
              </a:rPr>
              <a:t>Profesor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usa Fel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828800" y="1676520"/>
            <a:ext cx="5334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CINE SUNTEM NO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981080" y="2971800"/>
            <a:ext cx="5181840" cy="2133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isciplina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A CIV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: V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3753000" cy="285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038480" y="3727440"/>
            <a:ext cx="4714920" cy="3130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495680" y="457200"/>
            <a:ext cx="268632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155232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48387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ulishco</cp:lastModifiedBy>
  <dcterms:modified xsi:type="dcterms:W3CDTF">2009-12-09T10:27:5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